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7199313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492-A485-4321-81AB-5B1C3189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8F2-B52E-488E-A29D-74511901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C93-ED74-48C0-8A8D-B7DE8B93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228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984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72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228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984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D49-86A8-4452-868D-8594D0D0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6F88-9C65-4C2F-9D09-9642132A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B4E5-02E5-4008-A65B-29700EA0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2880-6F8E-4759-9961-91B1A5D0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D3CD-9B18-4B11-96ED-8D6CA1A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67BD-54D2-4218-BFBE-AE7C26C9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04720" y="29160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2DE0-75E3-4D48-B072-099F5CFC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CCF3-AE0D-4A8E-90F0-63752991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07A-414E-4196-B191-A2E1FCBF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75C8-B233-4797-905C-8A6337CB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EB4A-9D27-409D-9FF6-8C03690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4ADF-4F0D-436A-8028-2D1C68CA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4BCA-9428-4961-AEAC-BC7DDEC8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7228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3984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472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7228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3984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261-90E5-441B-A3B1-B48ACA51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D48-AB80-46E6-8542-CA80C184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D79-8D8B-4BA3-8FD6-BC13D0F2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23D-2F07-4517-8F0C-A20A14E3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4720" y="29160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9D5-9959-4B81-8422-225CDEC4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ED4-4A10-4008-BFB2-21C000E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698-6A6E-4EE8-B4D6-AC6CBB43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7E5-642B-43A8-A4DB-C744C31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10085040" cy="7194240"/>
            <a:chOff x="1440" y="0"/>
            <a:chExt cx="10085040" cy="7194240"/>
          </a:xfrm>
        </p:grpSpPr>
        <p:sp>
          <p:nvSpPr>
            <p:cNvPr id="1" name="Freeform 3"/>
            <p:cNvSpPr/>
            <p:nvPr/>
          </p:nvSpPr>
          <p:spPr>
            <a:xfrm>
              <a:off x="8828280" y="4377240"/>
              <a:ext cx="1258200" cy="281700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425160" y="6324120"/>
              <a:ext cx="661320" cy="87012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939240" y="7024680"/>
              <a:ext cx="146880" cy="169560"/>
            </a:xfrm>
            <a:custGeom>
              <a:avLst/>
              <a:gdLst>
                <a:gd name="textAreaLeft" fmla="*/ 0 w 146880"/>
                <a:gd name="textAreaRight" fmla="*/ 146880 w 146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503640" y="0"/>
              <a:ext cx="8920800" cy="7193880"/>
              <a:chOff x="503640" y="0"/>
              <a:chExt cx="8920800" cy="71938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880160" y="0"/>
                <a:ext cx="125640" cy="719388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405040" y="0"/>
                <a:ext cx="304200" cy="71938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872320" y="0"/>
                <a:ext cx="589680" cy="7193880"/>
              </a:xfrm>
              <a:custGeom>
                <a:avLst/>
                <a:gdLst>
                  <a:gd name="textAreaLeft" fmla="*/ 0 w 589680"/>
                  <a:gd name="textAreaRight" fmla="*/ 590040 w 5896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432120" y="0"/>
                <a:ext cx="747000" cy="7193880"/>
              </a:xfrm>
              <a:custGeom>
                <a:avLst/>
                <a:gdLst>
                  <a:gd name="textAreaLeft" fmla="*/ 0 w 747000"/>
                  <a:gd name="textAreaRight" fmla="*/ 747360 w 747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904800" y="0"/>
                <a:ext cx="975960" cy="7193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427880" y="0"/>
                <a:ext cx="1207440" cy="7193880"/>
              </a:xfrm>
              <a:custGeom>
                <a:avLst/>
                <a:gdLst>
                  <a:gd name="textAreaLeft" fmla="*/ 0 w 1207440"/>
                  <a:gd name="textAreaRight" fmla="*/ 1207800 w 12074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912800" y="0"/>
                <a:ext cx="1511640" cy="719388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97600" y="0"/>
                <a:ext cx="264240" cy="7193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441600" y="0"/>
                <a:ext cx="524880" cy="7193880"/>
              </a:xfrm>
              <a:custGeom>
                <a:avLst/>
                <a:gdLst>
                  <a:gd name="textAreaLeft" fmla="*/ 0 w 524880"/>
                  <a:gd name="textAreaRight" fmla="*/ 525240 w 5248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739960" y="0"/>
                <a:ext cx="743400" cy="719388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73160" y="0"/>
                <a:ext cx="1006200" cy="719388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22560" y="0"/>
                <a:ext cx="1289520" cy="71938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03640" y="0"/>
                <a:ext cx="1469520" cy="719388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10080" y="4835880"/>
              <a:ext cx="1060560" cy="23583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0080" y="6484320"/>
              <a:ext cx="398880" cy="70992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357400" y="0"/>
              <a:ext cx="1721880" cy="297720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821080" y="0"/>
              <a:ext cx="1258200" cy="140832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365400" y="0"/>
              <a:ext cx="713880" cy="6901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0080" y="0"/>
              <a:ext cx="1496160" cy="2348640"/>
            </a:xfrm>
            <a:custGeom>
              <a:avLst/>
              <a:gdLst>
                <a:gd name="textAreaLeft" fmla="*/ 0 w 1496160"/>
                <a:gd name="textAreaRight" fmla="*/ 1496520 w 149616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0080" y="0"/>
              <a:ext cx="1028880" cy="99828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0080" y="0"/>
              <a:ext cx="470880" cy="41976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58208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92724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52372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53400"/>
              <a:ext cx="10076040" cy="2617920"/>
              <a:chOff x="1440" y="653400"/>
              <a:chExt cx="10076040" cy="26179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3064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27132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6150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96128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5340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5476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8924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504360" y="6556320"/>
            <a:ext cx="235116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444840" y="6561000"/>
            <a:ext cx="319104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224480" y="6556320"/>
            <a:ext cx="235260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1F7C-3AC6-4767-9221-077D4B7E524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01720" indent="-308160"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35160" indent="-247680">
              <a:spcBef>
                <a:spcPts val="876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28720" indent="-247680">
              <a:spcBef>
                <a:spcPts val="876"/>
              </a:spcBef>
              <a:buClr>
                <a:srgbClr val="ccec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22640" indent="-247680">
              <a:spcBef>
                <a:spcPts val="876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10085040" cy="7194240"/>
            <a:chOff x="0" y="0"/>
            <a:chExt cx="10085040" cy="7194240"/>
          </a:xfrm>
        </p:grpSpPr>
        <p:sp>
          <p:nvSpPr>
            <p:cNvPr id="79" name="Freeform 3"/>
            <p:cNvSpPr/>
            <p:nvPr/>
          </p:nvSpPr>
          <p:spPr>
            <a:xfrm>
              <a:off x="8826840" y="4377240"/>
              <a:ext cx="1258200" cy="281700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423720" y="6324120"/>
              <a:ext cx="661320" cy="87012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937800" y="7024680"/>
              <a:ext cx="146880" cy="169560"/>
            </a:xfrm>
            <a:custGeom>
              <a:avLst/>
              <a:gdLst>
                <a:gd name="textAreaLeft" fmla="*/ 0 w 146880"/>
                <a:gd name="textAreaRight" fmla="*/ 146880 w 146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502200" y="0"/>
              <a:ext cx="8920800" cy="7193880"/>
              <a:chOff x="502200" y="0"/>
              <a:chExt cx="8920800" cy="719388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878720" y="0"/>
                <a:ext cx="125640" cy="719388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403600" y="0"/>
                <a:ext cx="304200" cy="71938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870880" y="0"/>
                <a:ext cx="589680" cy="7193880"/>
              </a:xfrm>
              <a:custGeom>
                <a:avLst/>
                <a:gdLst>
                  <a:gd name="textAreaLeft" fmla="*/ 0 w 589680"/>
                  <a:gd name="textAreaRight" fmla="*/ 590040 w 5896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430680" y="0"/>
                <a:ext cx="747000" cy="7193880"/>
              </a:xfrm>
              <a:custGeom>
                <a:avLst/>
                <a:gdLst>
                  <a:gd name="textAreaLeft" fmla="*/ 0 w 747000"/>
                  <a:gd name="textAreaRight" fmla="*/ 747360 w 747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903360" y="0"/>
                <a:ext cx="975960" cy="7193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426440" y="0"/>
                <a:ext cx="1207440" cy="7193880"/>
              </a:xfrm>
              <a:custGeom>
                <a:avLst/>
                <a:gdLst>
                  <a:gd name="textAreaLeft" fmla="*/ 0 w 1207440"/>
                  <a:gd name="textAreaRight" fmla="*/ 1207800 w 12074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911360" y="0"/>
                <a:ext cx="1511640" cy="719388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96160" y="0"/>
                <a:ext cx="264240" cy="7193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440160" y="0"/>
                <a:ext cx="524880" cy="7193880"/>
              </a:xfrm>
              <a:custGeom>
                <a:avLst/>
                <a:gdLst>
                  <a:gd name="textAreaLeft" fmla="*/ 0 w 524880"/>
                  <a:gd name="textAreaRight" fmla="*/ 525240 w 5248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738520" y="0"/>
                <a:ext cx="743400" cy="719388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71720" y="0"/>
                <a:ext cx="1006200" cy="719388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21120" y="0"/>
                <a:ext cx="1289520" cy="71938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502200" y="0"/>
                <a:ext cx="1469520" cy="719388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640" y="4835880"/>
              <a:ext cx="1060560" cy="23583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640" y="6484320"/>
              <a:ext cx="398880" cy="70992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355960" y="0"/>
              <a:ext cx="1721880" cy="297720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819640" y="0"/>
              <a:ext cx="1258200" cy="140832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363960" y="0"/>
              <a:ext cx="713880" cy="6901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640" y="0"/>
              <a:ext cx="1496160" cy="2348640"/>
            </a:xfrm>
            <a:custGeom>
              <a:avLst/>
              <a:gdLst>
                <a:gd name="textAreaLeft" fmla="*/ 0 w 1496160"/>
                <a:gd name="textAreaRight" fmla="*/ 1496520 w 149616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640" y="0"/>
              <a:ext cx="1028880" cy="99828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640" y="0"/>
              <a:ext cx="470880" cy="41976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58208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92724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52372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53400"/>
              <a:ext cx="10076040" cy="2617920"/>
              <a:chOff x="0" y="653400"/>
              <a:chExt cx="10076040" cy="26179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3064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27132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6150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96128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5340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5476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8924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01720" indent="-308160"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35160" indent="-247680">
              <a:spcBef>
                <a:spcPts val="876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28720" indent="-247680">
              <a:spcBef>
                <a:spcPts val="876"/>
              </a:spcBef>
              <a:buClr>
                <a:srgbClr val="ccec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22640" indent="-247680">
              <a:spcBef>
                <a:spcPts val="876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504360" y="6556320"/>
            <a:ext cx="235116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444840" y="6561000"/>
            <a:ext cx="319104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224480" y="6556320"/>
            <a:ext cx="235260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DAA6-B324-4E60-BE95-7550C4E438F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3389400" y="441360"/>
            <a:ext cx="4603680" cy="281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5959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200" spc="-1" strike="noStrike">
                <a:solidFill>
                  <a:srgbClr val="ff0000"/>
                </a:solidFill>
                <a:latin typeface="MAC C Swiss"/>
                <a:ea typeface="Arial"/>
              </a:rPr>
              <a:t>ОДБОР</a:t>
            </a:r>
            <a:r>
              <a:rPr b="0" lang="mk-MK" sz="1200" spc="-1" strike="noStrike">
                <a:solidFill>
                  <a:srgbClr val="ff0000"/>
                </a:solidFill>
                <a:latin typeface="MAC C Swiss"/>
                <a:ea typeface="Arial"/>
              </a:rPr>
              <a:t> </a:t>
            </a:r>
            <a:r>
              <a:rPr b="1" lang="mk-MK" sz="1200" spc="-1" strike="noStrike">
                <a:solidFill>
                  <a:srgbClr val="ff0000"/>
                </a:solidFill>
                <a:latin typeface="MAC C Swiss"/>
                <a:ea typeface="Arial"/>
              </a:rPr>
              <a:t>НА ДИРЕКТОР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4103640" y="936720"/>
            <a:ext cx="2881440" cy="281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MAC C Swiss"/>
              </a:rPr>
              <a:t>GENERALEN</a:t>
            </a:r>
            <a:r>
              <a:rPr b="0" lang="en-US" sz="1200" spc="-1" strike="noStrike">
                <a:solidFill>
                  <a:srgbClr val="ff0000"/>
                </a:solidFill>
                <a:latin typeface="MAC C Swiss"/>
              </a:rPr>
              <a:t>  </a:t>
            </a:r>
            <a:r>
              <a:rPr b="1" lang="en-US" sz="1200" spc="-1" strike="noStrike">
                <a:solidFill>
                  <a:srgbClr val="ff0000"/>
                </a:solidFill>
                <a:latin typeface="MAC C Swiss"/>
              </a:rPr>
              <a:t>DIREKTO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8136000" y="504720"/>
            <a:ext cx="1511280" cy="403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ПРЕТСТАВНИК НА РАКОВОДСТВОТО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688000" y="720720"/>
            <a:ext cx="0" cy="7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5688000" y="79200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144360" y="216000"/>
            <a:ext cx="986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Line 24"/>
          <p:cNvSpPr/>
          <p:nvPr/>
        </p:nvSpPr>
        <p:spPr>
          <a:xfrm flipV="1">
            <a:off x="1440000" y="431640"/>
            <a:ext cx="0" cy="122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25"/>
          <p:cNvSpPr/>
          <p:nvPr/>
        </p:nvSpPr>
        <p:spPr>
          <a:xfrm flipV="1">
            <a:off x="10009080" y="217080"/>
            <a:ext cx="0" cy="143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2448000" y="1584360"/>
            <a:ext cx="1079280" cy="24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ТЕХНИЧКИ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6769080" y="1584360"/>
            <a:ext cx="1440000" cy="396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Swiss"/>
              </a:rPr>
              <a:t>OP[TO - KADROV  I PRAVE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4464000" y="1584360"/>
            <a:ext cx="1871640" cy="24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ФИНАНСОВ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2952720" y="151272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1440000" y="1582560"/>
            <a:ext cx="0" cy="223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Line 54"/>
          <p:cNvSpPr/>
          <p:nvPr/>
        </p:nvSpPr>
        <p:spPr>
          <a:xfrm>
            <a:off x="1440000" y="374508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10009080" y="1870200"/>
            <a:ext cx="0" cy="223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7"/>
          <p:cNvSpPr/>
          <p:nvPr/>
        </p:nvSpPr>
        <p:spPr>
          <a:xfrm>
            <a:off x="216000" y="431640"/>
            <a:ext cx="1079280" cy="594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ВРВНО РАКОВОД -СТ ВО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58"/>
          <p:cNvSpPr/>
          <p:nvPr/>
        </p:nvSpPr>
        <p:spPr>
          <a:xfrm>
            <a:off x="216000" y="1584360"/>
            <a:ext cx="1079280" cy="2592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СЕКТОРИ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59"/>
          <p:cNvSpPr/>
          <p:nvPr/>
        </p:nvSpPr>
        <p:spPr>
          <a:xfrm>
            <a:off x="216000" y="2376360"/>
            <a:ext cx="1079280" cy="2592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СЛУЖБИ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216000" y="3313080"/>
            <a:ext cx="1079280" cy="2440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ffff"/>
                </a:solidFill>
                <a:latin typeface="MAC C Swiss"/>
              </a:rPr>
              <a:t>ОДДЕЛЕНИЈ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62"/>
          <p:cNvSpPr/>
          <p:nvPr/>
        </p:nvSpPr>
        <p:spPr>
          <a:xfrm>
            <a:off x="216000" y="4105440"/>
            <a:ext cx="1079280" cy="39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ffff"/>
                </a:solidFill>
                <a:latin typeface="MAC C Swiss"/>
              </a:rPr>
              <a:t>РАБОТНИ ЕДИНИЦИ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63"/>
          <p:cNvSpPr/>
          <p:nvPr/>
        </p:nvSpPr>
        <p:spPr>
          <a:xfrm>
            <a:off x="1728720" y="4105440"/>
            <a:ext cx="1008000" cy="398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ГРАДИЛИШТ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70"/>
          <p:cNvSpPr/>
          <p:nvPr/>
        </p:nvSpPr>
        <p:spPr>
          <a:xfrm>
            <a:off x="2952720" y="4105440"/>
            <a:ext cx="1008000" cy="414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ГРАДИЛИШТ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71"/>
          <p:cNvSpPr/>
          <p:nvPr/>
        </p:nvSpPr>
        <p:spPr>
          <a:xfrm>
            <a:off x="4105440" y="4105440"/>
            <a:ext cx="108108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МЕХАНИЗАЦИЈ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72"/>
          <p:cNvSpPr/>
          <p:nvPr/>
        </p:nvSpPr>
        <p:spPr>
          <a:xfrm>
            <a:off x="5327640" y="4105440"/>
            <a:ext cx="100800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ЗАНАТСК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73"/>
          <p:cNvSpPr/>
          <p:nvPr/>
        </p:nvSpPr>
        <p:spPr>
          <a:xfrm>
            <a:off x="6480000" y="4105440"/>
            <a:ext cx="100836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АРМИРАЧК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74"/>
          <p:cNvSpPr/>
          <p:nvPr/>
        </p:nvSpPr>
        <p:spPr>
          <a:xfrm>
            <a:off x="7632720" y="4105440"/>
            <a:ext cx="100800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БЕТОНК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76"/>
          <p:cNvSpPr/>
          <p:nvPr/>
        </p:nvSpPr>
        <p:spPr>
          <a:xfrm>
            <a:off x="1800360" y="4545000"/>
            <a:ext cx="93636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ОБЈЕКТ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78"/>
          <p:cNvSpPr/>
          <p:nvPr/>
        </p:nvSpPr>
        <p:spPr>
          <a:xfrm>
            <a:off x="3024360" y="4537080"/>
            <a:ext cx="93636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ОБЈЕКТ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81"/>
          <p:cNvSpPr/>
          <p:nvPr/>
        </p:nvSpPr>
        <p:spPr>
          <a:xfrm>
            <a:off x="2736720" y="4248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84"/>
          <p:cNvSpPr/>
          <p:nvPr/>
        </p:nvSpPr>
        <p:spPr>
          <a:xfrm>
            <a:off x="2303640" y="5905440"/>
            <a:ext cx="93636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СТОПАНСКИ ДВОР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5"/>
          <p:cNvSpPr/>
          <p:nvPr/>
        </p:nvSpPr>
        <p:spPr>
          <a:xfrm>
            <a:off x="2808360" y="4248000"/>
            <a:ext cx="0" cy="16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Line 86"/>
          <p:cNvSpPr/>
          <p:nvPr/>
        </p:nvSpPr>
        <p:spPr>
          <a:xfrm>
            <a:off x="2952720" y="43210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89"/>
          <p:cNvSpPr/>
          <p:nvPr/>
        </p:nvSpPr>
        <p:spPr>
          <a:xfrm>
            <a:off x="2952720" y="4680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90"/>
          <p:cNvSpPr/>
          <p:nvPr/>
        </p:nvSpPr>
        <p:spPr>
          <a:xfrm>
            <a:off x="1728720" y="4680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91"/>
          <p:cNvSpPr/>
          <p:nvPr/>
        </p:nvSpPr>
        <p:spPr>
          <a:xfrm>
            <a:off x="1727280" y="432108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95"/>
          <p:cNvSpPr/>
          <p:nvPr/>
        </p:nvSpPr>
        <p:spPr>
          <a:xfrm>
            <a:off x="4248000" y="453708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[KA MEHANIZAC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97"/>
          <p:cNvSpPr/>
          <p:nvPr/>
        </p:nvSpPr>
        <p:spPr>
          <a:xfrm>
            <a:off x="4248000" y="511344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КРАНОВ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248000" y="540072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99"/>
          <p:cNvSpPr/>
          <p:nvPr/>
        </p:nvSpPr>
        <p:spPr>
          <a:xfrm>
            <a:off x="4103640" y="432108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Line 100"/>
          <p:cNvSpPr/>
          <p:nvPr/>
        </p:nvSpPr>
        <p:spPr>
          <a:xfrm>
            <a:off x="4103640" y="4680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101"/>
          <p:cNvSpPr/>
          <p:nvPr/>
        </p:nvSpPr>
        <p:spPr>
          <a:xfrm>
            <a:off x="4103640" y="4968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Line 102"/>
          <p:cNvSpPr/>
          <p:nvPr/>
        </p:nvSpPr>
        <p:spPr>
          <a:xfrm>
            <a:off x="4103640" y="5256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Line 103"/>
          <p:cNvSpPr/>
          <p:nvPr/>
        </p:nvSpPr>
        <p:spPr>
          <a:xfrm>
            <a:off x="4103640" y="5545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104"/>
          <p:cNvSpPr/>
          <p:nvPr/>
        </p:nvSpPr>
        <p:spPr>
          <a:xfrm>
            <a:off x="5400720" y="4537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ЕЛЕКТРИК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05"/>
          <p:cNvSpPr/>
          <p:nvPr/>
        </p:nvSpPr>
        <p:spPr>
          <a:xfrm>
            <a:off x="5400720" y="482436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СТОЛАРИЈ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106"/>
          <p:cNvSpPr/>
          <p:nvPr/>
        </p:nvSpPr>
        <p:spPr>
          <a:xfrm>
            <a:off x="5400720" y="511344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ВОДОВОД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107"/>
          <p:cNvSpPr/>
          <p:nvPr/>
        </p:nvSpPr>
        <p:spPr>
          <a:xfrm>
            <a:off x="5400720" y="540072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ГРЕЕЊ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08"/>
          <p:cNvSpPr/>
          <p:nvPr/>
        </p:nvSpPr>
        <p:spPr>
          <a:xfrm>
            <a:off x="5400720" y="568800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ПОДОВ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09"/>
          <p:cNvSpPr/>
          <p:nvPr/>
        </p:nvSpPr>
        <p:spPr>
          <a:xfrm>
            <a:off x="5400720" y="5977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Line 110"/>
          <p:cNvSpPr/>
          <p:nvPr/>
        </p:nvSpPr>
        <p:spPr>
          <a:xfrm>
            <a:off x="5327640" y="432108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111"/>
          <p:cNvSpPr/>
          <p:nvPr/>
        </p:nvSpPr>
        <p:spPr>
          <a:xfrm>
            <a:off x="5327640" y="4680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Line 112"/>
          <p:cNvSpPr/>
          <p:nvPr/>
        </p:nvSpPr>
        <p:spPr>
          <a:xfrm>
            <a:off x="5327640" y="4968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113"/>
          <p:cNvSpPr/>
          <p:nvPr/>
        </p:nvSpPr>
        <p:spPr>
          <a:xfrm>
            <a:off x="5327640" y="5256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114"/>
          <p:cNvSpPr/>
          <p:nvPr/>
        </p:nvSpPr>
        <p:spPr>
          <a:xfrm>
            <a:off x="5327640" y="55450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115"/>
          <p:cNvSpPr/>
          <p:nvPr/>
        </p:nvSpPr>
        <p:spPr>
          <a:xfrm>
            <a:off x="5327640" y="5832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116"/>
          <p:cNvSpPr/>
          <p:nvPr/>
        </p:nvSpPr>
        <p:spPr>
          <a:xfrm>
            <a:off x="5329080" y="612144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117"/>
          <p:cNvSpPr/>
          <p:nvPr/>
        </p:nvSpPr>
        <p:spPr>
          <a:xfrm>
            <a:off x="6480000" y="43210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118"/>
          <p:cNvSpPr/>
          <p:nvPr/>
        </p:nvSpPr>
        <p:spPr>
          <a:xfrm>
            <a:off x="6553080" y="453708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IPREMA NA </a:t>
            </a:r>
            <a:r>
              <a:rPr b="0" lang="mk-MK" sz="800" spc="-1" strike="noStrike">
                <a:solidFill>
                  <a:srgbClr val="ffffff"/>
                </a:solidFill>
                <a:latin typeface="Arial"/>
              </a:rPr>
              <a:t>АРМАТУР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9"/>
          <p:cNvSpPr/>
          <p:nvPr/>
        </p:nvSpPr>
        <p:spPr>
          <a:xfrm>
            <a:off x="6553080" y="489600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ONTA@A NA ARMATUR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Line 120"/>
          <p:cNvSpPr/>
          <p:nvPr/>
        </p:nvSpPr>
        <p:spPr>
          <a:xfrm>
            <a:off x="6480000" y="475308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Line 121"/>
          <p:cNvSpPr/>
          <p:nvPr/>
        </p:nvSpPr>
        <p:spPr>
          <a:xfrm>
            <a:off x="6481800" y="51134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123"/>
          <p:cNvSpPr/>
          <p:nvPr/>
        </p:nvSpPr>
        <p:spPr>
          <a:xfrm>
            <a:off x="6335640" y="4248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28"/>
          <p:cNvSpPr/>
          <p:nvPr/>
        </p:nvSpPr>
        <p:spPr>
          <a:xfrm>
            <a:off x="7704000" y="4392720"/>
            <a:ext cx="936720" cy="45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OIZVOD-STVO NA </a:t>
            </a:r>
            <a:r>
              <a:rPr b="0" lang="mk-MK" sz="800" spc="-1" strike="noStrike">
                <a:solidFill>
                  <a:srgbClr val="ffffff"/>
                </a:solidFill>
                <a:latin typeface="Arial"/>
              </a:rPr>
              <a:t>БЕТО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129"/>
          <p:cNvSpPr/>
          <p:nvPr/>
        </p:nvSpPr>
        <p:spPr>
          <a:xfrm>
            <a:off x="7704000" y="489600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БЕТОНСКИ ЕЛЕМЕНТ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130"/>
          <p:cNvSpPr/>
          <p:nvPr/>
        </p:nvSpPr>
        <p:spPr>
          <a:xfrm>
            <a:off x="7704000" y="540072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СЕПАРАЦИЈА НА ПЕСОК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31"/>
          <p:cNvSpPr/>
          <p:nvPr/>
        </p:nvSpPr>
        <p:spPr>
          <a:xfrm>
            <a:off x="7632720" y="439272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132"/>
          <p:cNvSpPr/>
          <p:nvPr/>
        </p:nvSpPr>
        <p:spPr>
          <a:xfrm>
            <a:off x="7632720" y="47530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133"/>
          <p:cNvSpPr/>
          <p:nvPr/>
        </p:nvSpPr>
        <p:spPr>
          <a:xfrm>
            <a:off x="7632720" y="51832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Line 134"/>
          <p:cNvSpPr/>
          <p:nvPr/>
        </p:nvSpPr>
        <p:spPr>
          <a:xfrm>
            <a:off x="7632720" y="55450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Line 135"/>
          <p:cNvSpPr/>
          <p:nvPr/>
        </p:nvSpPr>
        <p:spPr>
          <a:xfrm>
            <a:off x="1440000" y="3817800"/>
            <a:ext cx="0" cy="316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136"/>
          <p:cNvSpPr/>
          <p:nvPr/>
        </p:nvSpPr>
        <p:spPr>
          <a:xfrm>
            <a:off x="216000" y="6985080"/>
            <a:ext cx="97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Line 137"/>
          <p:cNvSpPr/>
          <p:nvPr/>
        </p:nvSpPr>
        <p:spPr>
          <a:xfrm>
            <a:off x="10009080" y="4106880"/>
            <a:ext cx="0" cy="287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Line 141"/>
          <p:cNvSpPr/>
          <p:nvPr/>
        </p:nvSpPr>
        <p:spPr>
          <a:xfrm>
            <a:off x="142920" y="216000"/>
            <a:ext cx="73080" cy="676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143"/>
          <p:cNvSpPr/>
          <p:nvPr/>
        </p:nvSpPr>
        <p:spPr>
          <a:xfrm>
            <a:off x="3024360" y="0"/>
            <a:ext cx="482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200" spc="-1" strike="noStrike">
                <a:solidFill>
                  <a:srgbClr val="ffffff"/>
                </a:solidFill>
                <a:latin typeface="MAC C Swiss"/>
              </a:rPr>
              <a:t>ДГ" БЕТОН" АД - СКОПЈЕ   СЕРТИФИЦИРА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Line 144"/>
          <p:cNvSpPr/>
          <p:nvPr/>
        </p:nvSpPr>
        <p:spPr>
          <a:xfrm>
            <a:off x="2232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145"/>
          <p:cNvSpPr/>
          <p:nvPr/>
        </p:nvSpPr>
        <p:spPr>
          <a:xfrm>
            <a:off x="3456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146"/>
          <p:cNvSpPr/>
          <p:nvPr/>
        </p:nvSpPr>
        <p:spPr>
          <a:xfrm>
            <a:off x="4680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Line 147"/>
          <p:cNvSpPr/>
          <p:nvPr/>
        </p:nvSpPr>
        <p:spPr>
          <a:xfrm>
            <a:off x="583236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Line 148"/>
          <p:cNvSpPr/>
          <p:nvPr/>
        </p:nvSpPr>
        <p:spPr>
          <a:xfrm>
            <a:off x="698508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Line 149"/>
          <p:cNvSpPr/>
          <p:nvPr/>
        </p:nvSpPr>
        <p:spPr>
          <a:xfrm>
            <a:off x="8136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151"/>
          <p:cNvSpPr/>
          <p:nvPr/>
        </p:nvSpPr>
        <p:spPr>
          <a:xfrm>
            <a:off x="2232000" y="3960720"/>
            <a:ext cx="590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168"/>
          <p:cNvSpPr/>
          <p:nvPr/>
        </p:nvSpPr>
        <p:spPr>
          <a:xfrm>
            <a:off x="3024360" y="4896000"/>
            <a:ext cx="93636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I^KO ODDELENI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169"/>
          <p:cNvSpPr/>
          <p:nvPr/>
        </p:nvSpPr>
        <p:spPr>
          <a:xfrm>
            <a:off x="5040360" y="3745080"/>
            <a:ext cx="0" cy="142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170"/>
          <p:cNvSpPr/>
          <p:nvPr/>
        </p:nvSpPr>
        <p:spPr>
          <a:xfrm>
            <a:off x="1368360" y="1008000"/>
            <a:ext cx="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Line 171"/>
          <p:cNvSpPr/>
          <p:nvPr/>
        </p:nvSpPr>
        <p:spPr>
          <a:xfrm>
            <a:off x="1368360" y="432108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Line 172"/>
          <p:cNvSpPr/>
          <p:nvPr/>
        </p:nvSpPr>
        <p:spPr>
          <a:xfrm>
            <a:off x="1368360" y="100800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174"/>
          <p:cNvSpPr/>
          <p:nvPr/>
        </p:nvSpPr>
        <p:spPr>
          <a:xfrm>
            <a:off x="4248000" y="568800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ОДРЖУВАЊ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Line 175"/>
          <p:cNvSpPr/>
          <p:nvPr/>
        </p:nvSpPr>
        <p:spPr>
          <a:xfrm>
            <a:off x="4103640" y="5832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177"/>
          <p:cNvSpPr/>
          <p:nvPr/>
        </p:nvSpPr>
        <p:spPr>
          <a:xfrm>
            <a:off x="4103640" y="612144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180"/>
          <p:cNvSpPr/>
          <p:nvPr/>
        </p:nvSpPr>
        <p:spPr>
          <a:xfrm>
            <a:off x="6553080" y="5329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182"/>
          <p:cNvSpPr/>
          <p:nvPr/>
        </p:nvSpPr>
        <p:spPr>
          <a:xfrm>
            <a:off x="6480000" y="5472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183"/>
          <p:cNvSpPr/>
          <p:nvPr/>
        </p:nvSpPr>
        <p:spPr>
          <a:xfrm>
            <a:off x="7704000" y="5761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Line 186"/>
          <p:cNvSpPr/>
          <p:nvPr/>
        </p:nvSpPr>
        <p:spPr>
          <a:xfrm>
            <a:off x="7632720" y="5832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188"/>
          <p:cNvSpPr/>
          <p:nvPr/>
        </p:nvSpPr>
        <p:spPr>
          <a:xfrm>
            <a:off x="7632720" y="6264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89"/>
          <p:cNvSpPr/>
          <p:nvPr/>
        </p:nvSpPr>
        <p:spPr>
          <a:xfrm>
            <a:off x="4248000" y="489600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RANSPOR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190"/>
          <p:cNvSpPr/>
          <p:nvPr/>
        </p:nvSpPr>
        <p:spPr>
          <a:xfrm>
            <a:off x="1440000" y="388764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91"/>
          <p:cNvSpPr/>
          <p:nvPr/>
        </p:nvSpPr>
        <p:spPr>
          <a:xfrm>
            <a:off x="6553080" y="561672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I^KO ODDELENI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192"/>
          <p:cNvSpPr/>
          <p:nvPr/>
        </p:nvSpPr>
        <p:spPr>
          <a:xfrm>
            <a:off x="6480000" y="576108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193"/>
          <p:cNvSpPr/>
          <p:nvPr/>
        </p:nvSpPr>
        <p:spPr>
          <a:xfrm>
            <a:off x="7704000" y="6121440"/>
            <a:ext cx="122400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ЛАБОРАТОРИЈ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 Box 199"/>
          <p:cNvSpPr/>
          <p:nvPr/>
        </p:nvSpPr>
        <p:spPr>
          <a:xfrm>
            <a:off x="0" y="6986520"/>
            <a:ext cx="144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Times"/>
              </a:rPr>
              <a:t>Izdanie  11/2012/07/15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200"/>
          <p:cNvSpPr/>
          <p:nvPr/>
        </p:nvSpPr>
        <p:spPr>
          <a:xfrm>
            <a:off x="4248000" y="597708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ТЕХНИЧКО ОДДЕЛЕНИ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203"/>
          <p:cNvSpPr/>
          <p:nvPr/>
        </p:nvSpPr>
        <p:spPr>
          <a:xfrm>
            <a:off x="10009080" y="1655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217"/>
          <p:cNvSpPr/>
          <p:nvPr/>
        </p:nvSpPr>
        <p:spPr>
          <a:xfrm>
            <a:off x="9389160" y="0"/>
            <a:ext cx="50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Verdana"/>
              </a:rPr>
              <a:t>П 5.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mk-MK" sz="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19"/>
          <p:cNvSpPr/>
          <p:nvPr/>
        </p:nvSpPr>
        <p:spPr>
          <a:xfrm>
            <a:off x="1800360" y="4896000"/>
            <a:ext cx="93636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I^KO ODDELENI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Line 221"/>
          <p:cNvSpPr/>
          <p:nvPr/>
        </p:nvSpPr>
        <p:spPr>
          <a:xfrm>
            <a:off x="1727280" y="5040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223"/>
          <p:cNvSpPr/>
          <p:nvPr/>
        </p:nvSpPr>
        <p:spPr>
          <a:xfrm>
            <a:off x="2952720" y="496872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Line 225"/>
          <p:cNvSpPr/>
          <p:nvPr/>
        </p:nvSpPr>
        <p:spPr>
          <a:xfrm>
            <a:off x="1440000" y="43164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Line 226"/>
          <p:cNvSpPr/>
          <p:nvPr/>
        </p:nvSpPr>
        <p:spPr>
          <a:xfrm>
            <a:off x="5472000" y="136836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228"/>
          <p:cNvSpPr/>
          <p:nvPr/>
        </p:nvSpPr>
        <p:spPr>
          <a:xfrm>
            <a:off x="287280" y="4680000"/>
            <a:ext cx="1079640" cy="2440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ffff"/>
                </a:solidFill>
                <a:latin typeface="MAC C Swiss"/>
              </a:rPr>
              <a:t>ОДДЕЛЕНИЈ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229"/>
          <p:cNvSpPr/>
          <p:nvPr/>
        </p:nvSpPr>
        <p:spPr>
          <a:xfrm>
            <a:off x="4753080" y="216000"/>
            <a:ext cx="718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РЗЗС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232"/>
          <p:cNvSpPr/>
          <p:nvPr/>
        </p:nvSpPr>
        <p:spPr>
          <a:xfrm>
            <a:off x="5688000" y="792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36"/>
          <p:cNvSpPr/>
          <p:nvPr/>
        </p:nvSpPr>
        <p:spPr>
          <a:xfrm>
            <a:off x="5111640" y="194472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FINANSOVA</a:t>
            </a:r>
            <a:r>
              <a:rPr b="1" lang="en-US" sz="800" spc="-1" strike="noStrike">
                <a:solidFill>
                  <a:srgbClr val="ffffff"/>
                </a:solidFill>
                <a:latin typeface="MAC C Swiss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OPERATIV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37"/>
          <p:cNvSpPr/>
          <p:nvPr/>
        </p:nvSpPr>
        <p:spPr>
          <a:xfrm>
            <a:off x="5111640" y="230508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SMETKOVODSTVO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38"/>
          <p:cNvSpPr/>
          <p:nvPr/>
        </p:nvSpPr>
        <p:spPr>
          <a:xfrm>
            <a:off x="5111640" y="266400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KOMERCIJ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39"/>
          <p:cNvSpPr/>
          <p:nvPr/>
        </p:nvSpPr>
        <p:spPr>
          <a:xfrm>
            <a:off x="5111640" y="302436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UVOZ - IZVOZ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40"/>
          <p:cNvSpPr/>
          <p:nvPr/>
        </p:nvSpPr>
        <p:spPr>
          <a:xfrm>
            <a:off x="5111640" y="338472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LAN I ANALIZ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50"/>
          <p:cNvSpPr/>
          <p:nvPr/>
        </p:nvSpPr>
        <p:spPr>
          <a:xfrm>
            <a:off x="8569440" y="1584360"/>
            <a:ext cx="1295280" cy="24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Times"/>
              </a:rPr>
              <a:t>IKT CENTA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254"/>
          <p:cNvSpPr/>
          <p:nvPr/>
        </p:nvSpPr>
        <p:spPr>
          <a:xfrm>
            <a:off x="7201080" y="3313080"/>
            <a:ext cx="10792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IMOTNI ODNOS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257"/>
          <p:cNvSpPr/>
          <p:nvPr/>
        </p:nvSpPr>
        <p:spPr>
          <a:xfrm>
            <a:off x="1727280" y="2016000"/>
            <a:ext cx="936720" cy="57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MARKETING, IN@ENERINGNADVORE[EN PAZA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258"/>
          <p:cNvSpPr/>
          <p:nvPr/>
        </p:nvSpPr>
        <p:spPr>
          <a:xfrm>
            <a:off x="1727280" y="2736720"/>
            <a:ext cx="1081080" cy="45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OLO</a:t>
            </a: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Ш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KO DINAMI^KI PLANOV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259"/>
          <p:cNvSpPr/>
          <p:nvPr/>
        </p:nvSpPr>
        <p:spPr>
          <a:xfrm>
            <a:off x="3311640" y="3313080"/>
            <a:ext cx="93636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RAZLIKA VO CEN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265"/>
          <p:cNvSpPr/>
          <p:nvPr/>
        </p:nvSpPr>
        <p:spPr>
          <a:xfrm>
            <a:off x="1584360" y="2952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267"/>
          <p:cNvSpPr/>
          <p:nvPr/>
        </p:nvSpPr>
        <p:spPr>
          <a:xfrm>
            <a:off x="4824360" y="1871640"/>
            <a:ext cx="0" cy="16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268"/>
          <p:cNvSpPr/>
          <p:nvPr/>
        </p:nvSpPr>
        <p:spPr>
          <a:xfrm>
            <a:off x="4824360" y="3529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Line 269"/>
          <p:cNvSpPr/>
          <p:nvPr/>
        </p:nvSpPr>
        <p:spPr>
          <a:xfrm>
            <a:off x="4824360" y="3168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270"/>
          <p:cNvSpPr/>
          <p:nvPr/>
        </p:nvSpPr>
        <p:spPr>
          <a:xfrm>
            <a:off x="4824360" y="2736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271"/>
          <p:cNvSpPr/>
          <p:nvPr/>
        </p:nvSpPr>
        <p:spPr>
          <a:xfrm>
            <a:off x="4824360" y="2448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Line 272"/>
          <p:cNvSpPr/>
          <p:nvPr/>
        </p:nvSpPr>
        <p:spPr>
          <a:xfrm>
            <a:off x="4824360" y="2087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273"/>
          <p:cNvSpPr/>
          <p:nvPr/>
        </p:nvSpPr>
        <p:spPr>
          <a:xfrm>
            <a:off x="6912000" y="194472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Line 274"/>
          <p:cNvSpPr/>
          <p:nvPr/>
        </p:nvSpPr>
        <p:spPr>
          <a:xfrm>
            <a:off x="6912000" y="3529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Line 275"/>
          <p:cNvSpPr/>
          <p:nvPr/>
        </p:nvSpPr>
        <p:spPr>
          <a:xfrm>
            <a:off x="6912000" y="3024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276"/>
          <p:cNvSpPr/>
          <p:nvPr/>
        </p:nvSpPr>
        <p:spPr>
          <a:xfrm>
            <a:off x="6912000" y="2592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77"/>
          <p:cNvSpPr/>
          <p:nvPr/>
        </p:nvSpPr>
        <p:spPr>
          <a:xfrm>
            <a:off x="6912000" y="2160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278"/>
          <p:cNvSpPr/>
          <p:nvPr/>
        </p:nvSpPr>
        <p:spPr>
          <a:xfrm>
            <a:off x="1440000" y="136836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279"/>
          <p:cNvSpPr/>
          <p:nvPr/>
        </p:nvSpPr>
        <p:spPr>
          <a:xfrm>
            <a:off x="295272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281"/>
          <p:cNvSpPr/>
          <p:nvPr/>
        </p:nvSpPr>
        <p:spPr>
          <a:xfrm>
            <a:off x="597708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283"/>
          <p:cNvSpPr/>
          <p:nvPr/>
        </p:nvSpPr>
        <p:spPr>
          <a:xfrm>
            <a:off x="784872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284"/>
          <p:cNvSpPr/>
          <p:nvPr/>
        </p:nvSpPr>
        <p:spPr>
          <a:xfrm>
            <a:off x="921708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85"/>
          <p:cNvSpPr/>
          <p:nvPr/>
        </p:nvSpPr>
        <p:spPr>
          <a:xfrm>
            <a:off x="8785080" y="2087640"/>
            <a:ext cx="1079640" cy="57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SISTEMSKI INTEGRACII I KOMPJUTERSKI MRE@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286"/>
          <p:cNvSpPr/>
          <p:nvPr/>
        </p:nvSpPr>
        <p:spPr>
          <a:xfrm>
            <a:off x="8785080" y="3024360"/>
            <a:ext cx="1079640" cy="57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ADMINISTRIRAWE NA BAZI NA PODATOCI I PODDR[K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288"/>
          <p:cNvSpPr/>
          <p:nvPr/>
        </p:nvSpPr>
        <p:spPr>
          <a:xfrm>
            <a:off x="3311640" y="1944720"/>
            <a:ext cx="10792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IPREM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 Box 289"/>
          <p:cNvSpPr/>
          <p:nvPr/>
        </p:nvSpPr>
        <p:spPr>
          <a:xfrm>
            <a:off x="3311640" y="223200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MARKETING I IN@ENERING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293"/>
          <p:cNvSpPr/>
          <p:nvPr/>
        </p:nvSpPr>
        <p:spPr>
          <a:xfrm>
            <a:off x="7201080" y="2087640"/>
            <a:ext cx="10792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AVNI RABOT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294"/>
          <p:cNvSpPr/>
          <p:nvPr/>
        </p:nvSpPr>
        <p:spPr>
          <a:xfrm>
            <a:off x="7201080" y="237636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OP[TI RABOTI I ^OVE^KI RESURS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295"/>
          <p:cNvSpPr/>
          <p:nvPr/>
        </p:nvSpPr>
        <p:spPr>
          <a:xfrm>
            <a:off x="7201080" y="287964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BEZBEDNOST I ZDRAVJ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296"/>
          <p:cNvSpPr/>
          <p:nvPr/>
        </p:nvSpPr>
        <p:spPr>
          <a:xfrm>
            <a:off x="8569440" y="187164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297"/>
          <p:cNvSpPr/>
          <p:nvPr/>
        </p:nvSpPr>
        <p:spPr>
          <a:xfrm>
            <a:off x="8569440" y="2448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298"/>
          <p:cNvSpPr/>
          <p:nvPr/>
        </p:nvSpPr>
        <p:spPr>
          <a:xfrm>
            <a:off x="8569440" y="338472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299"/>
          <p:cNvSpPr/>
          <p:nvPr/>
        </p:nvSpPr>
        <p:spPr>
          <a:xfrm>
            <a:off x="5688000" y="1224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300"/>
          <p:cNvSpPr/>
          <p:nvPr/>
        </p:nvSpPr>
        <p:spPr>
          <a:xfrm>
            <a:off x="3311640" y="266400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NADVORE</a:t>
            </a: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Ш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EN PAZA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301"/>
          <p:cNvSpPr/>
          <p:nvPr/>
        </p:nvSpPr>
        <p:spPr>
          <a:xfrm>
            <a:off x="2664000" y="23050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302"/>
          <p:cNvSpPr/>
          <p:nvPr/>
        </p:nvSpPr>
        <p:spPr>
          <a:xfrm>
            <a:off x="3024360" y="201600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303"/>
          <p:cNvSpPr/>
          <p:nvPr/>
        </p:nvSpPr>
        <p:spPr>
          <a:xfrm>
            <a:off x="3024360" y="2808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Line 304"/>
          <p:cNvSpPr/>
          <p:nvPr/>
        </p:nvSpPr>
        <p:spPr>
          <a:xfrm>
            <a:off x="3024360" y="2376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305"/>
          <p:cNvSpPr/>
          <p:nvPr/>
        </p:nvSpPr>
        <p:spPr>
          <a:xfrm>
            <a:off x="3024360" y="2016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306"/>
          <p:cNvSpPr/>
          <p:nvPr/>
        </p:nvSpPr>
        <p:spPr>
          <a:xfrm>
            <a:off x="1584360" y="1871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311"/>
          <p:cNvSpPr/>
          <p:nvPr/>
        </p:nvSpPr>
        <p:spPr>
          <a:xfrm>
            <a:off x="5040360" y="388764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Line 312"/>
          <p:cNvSpPr/>
          <p:nvPr/>
        </p:nvSpPr>
        <p:spPr>
          <a:xfrm>
            <a:off x="2087640" y="1871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314"/>
          <p:cNvSpPr/>
          <p:nvPr/>
        </p:nvSpPr>
        <p:spPr>
          <a:xfrm flipV="1">
            <a:off x="1584360" y="187128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Line 316"/>
          <p:cNvSpPr/>
          <p:nvPr/>
        </p:nvSpPr>
        <p:spPr>
          <a:xfrm>
            <a:off x="3024360" y="3313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317"/>
          <p:cNvSpPr/>
          <p:nvPr/>
        </p:nvSpPr>
        <p:spPr>
          <a:xfrm>
            <a:off x="2232000" y="2592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Line 319"/>
          <p:cNvSpPr/>
          <p:nvPr/>
        </p:nvSpPr>
        <p:spPr>
          <a:xfrm>
            <a:off x="6769080" y="2448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Line 320"/>
          <p:cNvSpPr/>
          <p:nvPr/>
        </p:nvSpPr>
        <p:spPr>
          <a:xfrm>
            <a:off x="6624720" y="2448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Line 321"/>
          <p:cNvSpPr/>
          <p:nvPr/>
        </p:nvSpPr>
        <p:spPr>
          <a:xfrm>
            <a:off x="6624720" y="3529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Line 322"/>
          <p:cNvSpPr/>
          <p:nvPr/>
        </p:nvSpPr>
        <p:spPr>
          <a:xfrm>
            <a:off x="5832360" y="2879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1511280" y="720720"/>
            <a:ext cx="1728720" cy="251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Swiss"/>
              </a:rPr>
              <a:t>VNATRE[NA</a:t>
            </a: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 РЕВИЗИЈ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Line 20"/>
          <p:cNvSpPr/>
          <p:nvPr/>
        </p:nvSpPr>
        <p:spPr>
          <a:xfrm>
            <a:off x="3240000" y="86364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5688000" y="86364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Line 296"/>
          <p:cNvSpPr/>
          <p:nvPr/>
        </p:nvSpPr>
        <p:spPr>
          <a:xfrm>
            <a:off x="7777080" y="863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Line 277"/>
          <p:cNvSpPr/>
          <p:nvPr/>
        </p:nvSpPr>
        <p:spPr>
          <a:xfrm>
            <a:off x="7777080" y="1152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7920000" y="936720"/>
            <a:ext cx="1944720" cy="555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Swiss"/>
              </a:rPr>
              <a:t>STRU^NO LICE  za Bezbednost i zdravje pri rabota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 Box 200"/>
          <p:cNvSpPr/>
          <p:nvPr/>
        </p:nvSpPr>
        <p:spPr>
          <a:xfrm>
            <a:off x="4248000" y="6408720"/>
            <a:ext cx="107964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OIZVODSTVO NA   ASFAL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Line 177"/>
          <p:cNvSpPr/>
          <p:nvPr/>
        </p:nvSpPr>
        <p:spPr>
          <a:xfrm>
            <a:off x="4103640" y="6553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07:17:43Z</dcterms:created>
  <dc:creator>Beton</dc:creator>
  <dc:description/>
  <dc:language>en-US</dc:language>
  <cp:lastModifiedBy>zoran.mihajlovic</cp:lastModifiedBy>
  <dcterms:modified xsi:type="dcterms:W3CDTF">2012-07-12T10:49:42Z</dcterms:modified>
  <cp:revision>63</cp:revision>
  <dc:subject/>
  <dc:title>Slide 1</dc:title>
</cp:coreProperties>
</file>