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23.png" ContentType="image/png"/>
  <Override PartName="/ppt/media/image13.jpeg" ContentType="image/jpeg"/>
  <Override PartName="/ppt/media/image8.jpeg" ContentType="image/jpeg"/>
  <Override PartName="/ppt/media/image30.png" ContentType="image/pn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9.png" ContentType="image/png"/>
  <Override PartName="/ppt/media/image34.png" ContentType="image/png"/>
  <Override PartName="/ppt/media/image33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D88-E0BE-4BCF-A74D-5EA97EBE7D58}" type="slidenum"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6BBE-DB03-4D4B-A663-070CB3C94232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2893-9E16-4F46-B516-37031F985AE9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-based or politically-driven definition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es with management o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9EC6-4D4A-4633-B206-F22417D65A4E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Септември 2015, Генералното Собрание на ОН ја усвои Агендата за одржлив развој до 2030 и 17те Цели за одржлив развој и 169 под цели или тарг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CD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е агенција одговорна за под цел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5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99BF-57BC-4634-BBC3-FF0EDE663B95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родуктивното земјиште 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рироден лек за голем број сериозни проблем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што се обезбедувањето на храна и недостатокот на во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стои дирекната врска помеѓ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D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DGs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во областа на сиромаштијата, обезбедувањето на храна, заштита на животната средина и одржливо користење на природните ресурс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мплементирањето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создава повеќекратни бенефити и има директен придонес за остварување на овие и друг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DGs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ример за поврзаноста на земјиштето и климатските промени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добрувањето на состојбата на земјиштето може да помогне во зголемување на Националните придонеси за климатски промени во рамки на  Договорот од Пар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 да го затвори преостанатиот јаз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p)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на емиси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A9ED-06DA-46C4-A802-A01455E77E34}" type="slidenum">
              <a:rPr b="0" lang="it-IT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Главната одлука з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D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 е донесена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P 12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 – Анкара 2015 г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5AE6-C491-4A67-A24F-F37D99B9208D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Методологијата е тестирана во 14 земји. Научени лекции и подобрена методолог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1A5F-2249-49F0-A5F8-D06B2407999A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and Policy Interface (SPI)  -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Независно научно советодавно тело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UNCCD (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PCC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за климатски про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дготви Концептуална рамка з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што е основа за подобрување на методологиј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7DB6-7DC7-4F74-8C1A-59D9EFC151B1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рограмата за поставување на целите за постигнување на неутралност на деградацијата на земјиштето е глобална програма на ГЕ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оја се имплементира прек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UC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 и Глобалниот Механизам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UNCC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До дене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, 104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земји се приклучија кон програм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стата претставува едногодиш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раткороч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ддршка на земјите кои изразија интерес да бидат дел од програм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ддршката опфаќ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онсултантски услу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обезбедување подато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организирање на 3 работилни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 патување во земјата, методолошка поддрш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3ECC-3362-4C71-85D6-1F2852800C82}" type="slidenum">
              <a:rPr b="0" lang="en-US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0FD-C8ED-4EC9-8763-BAEB75A9A617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Временска рамка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N-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2BBD-0389-4B8A-958E-5E73C345334B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E9334-F2F4-4FD1-AF6F-2D156AF3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40989-B43F-43DD-B861-C3C1770A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3B94A-A157-4209-ADBD-AF04AA73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02634-F2F4-491E-9555-2ABA116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298AB-68B5-4FFE-B2CE-F187B895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CF00-0232-4F35-8385-26C64350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4A260-7879-45A6-845C-241E6228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10850-7E18-4332-8B79-A8E0B400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6777C-253B-4A11-BF67-B7B8C8A6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B52DF-87BA-453D-B369-1C5B4C96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71EA7-C1D5-4330-A348-E377B779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6CEF6-2D68-4FEF-9ABB-55C86F89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F3FF4-FAE5-42A9-97DA-E7F65F03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0C695-4034-41AD-B5DE-31A13B60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F6ACF-3C53-4247-9717-DFC00FB5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242DE-365E-42A5-B934-70FADD92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55092-5EAD-40F5-862C-2146AF42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BC332-ADAC-4070-B36E-35E82540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A62B0-2169-47C8-960F-FA3D7878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44AA9-C5F3-4C13-9320-8CDA1D29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5B353-DA32-4249-A790-1FCF2AB8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DD998-613C-4483-846B-F842A12B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6D995-FA26-41BC-A26D-836C1E34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8D875-3CEA-48DA-9321-E6897E83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28E11-FEF0-40EE-842F-0EA8ACFA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079BB-F1EB-44B6-A6D2-267467B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3BA7A-DA9B-4DDE-8A89-0E0A8E71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030CE-0DBE-473C-8A78-9571E99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566F3-0A6A-407E-926F-995CFEA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A07E1-28A8-491A-BF0F-806DF7D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F09-96F4-4BC7-8756-6C4EB2C5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5878C-38A0-49E8-97C3-D2B6AF58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507F5-BB03-4348-A9AC-962263EA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46E49-A20C-4A6A-B44B-596DD012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E47D0-3C83-4AD3-937F-8AACE8FD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E4FFC-C326-4372-9457-A20FE501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4FCAA-3201-4415-A0D1-D42B1DC2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F0053-1FEC-408F-B75A-3EF622FC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5FC8E-D552-423C-9B50-57ED1D61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DA7A7-C95D-4255-BB8E-923E130D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99C65-3067-40E6-A713-64E0633C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904-61F3-42E3-9157-E0AF558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CA80D-9797-48BE-9163-AD1644A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73104-037A-4C75-ADFD-6396B9AF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28C57-2A59-4292-94A7-69281041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CAA3A-34BB-4986-AACC-4C87A054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89359-B485-48C9-9543-C25C390B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36AF3-21D6-452E-B265-A12BE0C4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5CD5A-04EF-459F-8AAF-FF48389B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06A99-538D-45B0-9D28-74C650C5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7CDFF-4E7C-4AB2-B499-A53C2756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339D1-4A2E-41EA-9684-0F54BBB7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2DC-E2C6-490E-90F6-29ACB1D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B9DC9-B516-4368-8931-FF9E0346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1FE8C-614B-4C9C-9F89-09C6A6E4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49C7A-836C-4B20-BA45-486818D5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D8C4D-395E-4566-A9FF-F8A1078D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A60F7-AA24-4C64-9A76-6D33984E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A082D-CB8A-4491-A0CD-8801A960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7022D-1345-4C9A-9682-2F4514DF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807-9018-403D-8774-CBC4BE50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E07-A169-4894-96D4-1BC0B61C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FBB-CE44-4394-8C6A-CA131CA2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5F0-0115-49DF-93F9-833F2575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903-DB67-4B68-8957-BC0B82F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321-0DD9-43B5-866B-CD345545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14B-07C5-4CB1-869E-49DFC283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E51-8A59-4B22-B14D-836B33F9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178-47CF-410F-B365-87C59EEB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EAAD-81FD-4DF0-A043-ED4012CF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D70B-236E-44F0-9366-12DAEB1C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4B3D-AD31-4842-8EFB-CC076CE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D63C-48B7-4936-951A-217AFCED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B8B1-D325-4D7B-B577-E82C8967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05C3-001A-4E15-B46C-D0749A68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FEFF-C8D0-4549-8572-104D3393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BDE2-581E-4AC1-B602-AFC97587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894D-9843-4BB5-999D-1EB141EE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026C-5709-4CE8-9E35-373930A6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F3DD-014B-4BEC-9C58-630CF658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674B-8AF6-4A0D-A6C1-3791F394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E47F-AD38-400C-BBC6-29E9376E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E4D43-FE25-4D57-B4B9-9AFB172D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CAE3-E179-4C89-ABA0-38AFB73A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A3BD-BC43-4CE1-BC4A-1C7DA4D1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E73A-093E-46CF-982E-1C611F3D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B3C6-0539-47E2-9787-7CEAAF5B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1F68-B73E-48FB-9DFE-C60E6D1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2396-E152-43AD-83C2-6A0D80E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0038-FD96-4649-BDF0-A79F1CC9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8992-D81E-4AEA-AD1A-45D7875E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86E1-A16A-4912-8E8E-82C94E87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E0A7-A7FB-4558-A01C-52932B08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FF24-2E54-40BE-82FD-13ABDA5E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E62D6-84DC-439E-A0A6-412FB511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5541-2C8C-4359-8158-3E3DF8E8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700A-E94F-4808-B45A-3336A686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4A75-E4D1-4430-B971-22EC1653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32D3-AF90-4A24-9197-7F9B2CC2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F9F4-83C7-44B6-A988-947E113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F95F0-8B44-4362-87E4-F1C404F9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5193B-D802-4CCF-941C-DA7648B2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AFA4-0902-4DF5-86D6-18354DD9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1134-D89D-4971-AC8D-97C8EFC8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E2D0-A22B-42E7-95F3-30F06374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1E65B-5AE9-4464-84D2-2F1C9FD2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71C2-629E-4429-A46F-3C9F43D6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8DC0E-1386-4D96-AF78-5CC887DF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5FD36-D9BD-4F80-A8AD-DF37F946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E9AF0-A8AC-4821-958F-523C6AF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35490-F1EB-486B-BFA2-437F9D63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052C2-A2D7-4133-AFCC-7D669B3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45C8-0CB1-45A7-8F61-2C1F86E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E7521-473F-43AC-BF81-AA264F47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9B614-E28D-4FFD-A619-4D9EBB9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0F2E-9079-43EE-97AD-4BEDD026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F867-75E2-4799-8CC8-776D1D15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5E2B0-9608-4836-967C-8A8C002C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496F2-D2D0-414B-9276-A1FC8C3D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A1998-8F69-4842-BBC5-B3D9B587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1B1EB-1BE8-474C-BD54-EEBE9592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64D8F-F4FD-4CB5-83E9-B316DD82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CAEA-0480-44C5-9601-76DB8D0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2C8E7-E742-46CD-AE1A-B2FBE6B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0AC8E-F8C7-43A9-BC6F-59504638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3857A-E751-4EEE-B75C-CC62E44B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597E0-1D90-4F35-95C1-519C4907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F0882-91BC-4DB0-AACC-90044157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ED568-D5EB-41B5-8073-2F868B0D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AC8D-C97C-4BF0-B3BC-50A342D9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E7FE-01EF-4726-B645-8D22F69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6667-DE9B-4425-A326-286EFA9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AEE2D-6F18-4DE1-B659-E69065DA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4A146-3ED1-4845-8CE6-898CDC22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9E188-87F0-4C0A-A8F9-ADCDF79C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E7629-63A0-469D-966C-930342D7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72F52-08F1-4BD5-A301-4E05E68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448CB-F739-40E7-A998-AE6D2F6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B7DC4-B607-436F-ACDB-C9A6EF14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F303B-469C-43FD-8538-9D2418A3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7B148-2D8D-4A56-AEE0-9D65965F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048D4-CD6F-402E-BB62-661DE091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FBCA-4B04-41E7-9523-57ABDBFF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BC371-A6AB-4060-8C2E-35F03BA6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8839-71DF-4558-A97E-9B3F495E0802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1A27-88E8-4CD1-88F4-BDCD569E60D4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FDD4-B616-4800-BE73-A853B267D1B4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4B66-533C-426B-9C94-63AFC8C60011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AC93-68B7-420D-8258-EECAB336A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DCE-196B-4DAE-9581-657D5A42B264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0431-F895-454E-A4D0-4C29E98FB505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BCC-6CA0-4796-8CB7-4F85D97A77CA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90C1-04F2-4F29-B86D-26F0B3559027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ACAB-9110-43C6-AA88-1B73F3DC99BE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185D-1942-4577-B29A-5AA38E027855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63D2-3217-47AC-877B-C65349890653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image" Target="../media/image32.pn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6.pn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0" y="-735120"/>
            <a:ext cx="9144000" cy="49561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1619280" y="4221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4000" spc="-1" strike="noStrike">
                <a:solidFill>
                  <a:srgbClr val="006600"/>
                </a:solidFill>
                <a:latin typeface="Franklin Gothic Medium Cond"/>
              </a:rPr>
              <a:t>Неутралност на деградација на земјиштето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5668920" y="5126040"/>
            <a:ext cx="3301920" cy="1541520"/>
            <a:chOff x="5668920" y="5126040"/>
            <a:chExt cx="3301920" cy="1541520"/>
          </a:xfrm>
        </p:grpSpPr>
        <p:pic>
          <p:nvPicPr>
            <p:cNvPr id="576" name="Picture 18" descr="Açıklama: CEM Logo İng"/>
            <p:cNvPicPr/>
            <p:nvPr/>
          </p:nvPicPr>
          <p:blipFill>
            <a:blip r:embed="rId2"/>
            <a:stretch/>
          </p:blipFill>
          <p:spPr>
            <a:xfrm>
              <a:off x="7741440" y="6038640"/>
              <a:ext cx="76932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19" descr=""/>
            <p:cNvPicPr/>
            <p:nvPr/>
          </p:nvPicPr>
          <p:blipFill>
            <a:blip r:embed="rId3"/>
            <a:stretch/>
          </p:blipFill>
          <p:spPr>
            <a:xfrm>
              <a:off x="6238800" y="5882400"/>
              <a:ext cx="5374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20" descr=""/>
            <p:cNvPicPr/>
            <p:nvPr/>
          </p:nvPicPr>
          <p:blipFill>
            <a:blip r:embed="rId4"/>
            <a:stretch/>
          </p:blipFill>
          <p:spPr>
            <a:xfrm>
              <a:off x="6859440" y="5938560"/>
              <a:ext cx="932760" cy="71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21" descr=""/>
            <p:cNvPicPr/>
            <p:nvPr/>
          </p:nvPicPr>
          <p:blipFill>
            <a:blip r:embed="rId5"/>
            <a:stretch/>
          </p:blipFill>
          <p:spPr>
            <a:xfrm>
              <a:off x="5668920" y="5150160"/>
              <a:ext cx="60732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22" descr="https://www.thegef.org/gef/sites/thegef.org/files/Images/25ylogoshort-01.png"/>
            <p:cNvPicPr/>
            <p:nvPr/>
          </p:nvPicPr>
          <p:blipFill>
            <a:blip r:embed="rId6"/>
            <a:stretch/>
          </p:blipFill>
          <p:spPr>
            <a:xfrm>
              <a:off x="6381360" y="5172840"/>
              <a:ext cx="87048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23" descr="UNEP Logo"/>
            <p:cNvPicPr/>
            <p:nvPr/>
          </p:nvPicPr>
          <p:blipFill>
            <a:blip r:embed="rId7"/>
            <a:stretch/>
          </p:blipFill>
          <p:spPr>
            <a:xfrm>
              <a:off x="7378920" y="5206320"/>
              <a:ext cx="50904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24" descr=""/>
            <p:cNvPicPr/>
            <p:nvPr/>
          </p:nvPicPr>
          <p:blipFill>
            <a:blip r:embed="rId8"/>
            <a:stretch/>
          </p:blipFill>
          <p:spPr>
            <a:xfrm>
              <a:off x="5724360" y="6023520"/>
              <a:ext cx="49608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25" descr=""/>
            <p:cNvPicPr/>
            <p:nvPr/>
          </p:nvPicPr>
          <p:blipFill>
            <a:blip r:embed="rId9"/>
            <a:stretch/>
          </p:blipFill>
          <p:spPr>
            <a:xfrm>
              <a:off x="8075880" y="5126040"/>
              <a:ext cx="435240" cy="7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26" descr="C:\Users\User\AppData\Local\Temp\Rar$DIa0.165\ANKARA GIRISIM1 ing.jpg"/>
            <p:cNvPicPr/>
            <p:nvPr/>
          </p:nvPicPr>
          <p:blipFill>
            <a:blip r:embed="rId10"/>
            <a:stretch/>
          </p:blipFill>
          <p:spPr>
            <a:xfrm>
              <a:off x="8434800" y="5953680"/>
              <a:ext cx="536040" cy="52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5" name="Picture 3" descr="C:\Users\ANNAGY~1\AppData\Local\Temp\notesE038F8\logo_linear_colour options-08.png"/>
          <p:cNvPicPr/>
          <p:nvPr/>
        </p:nvPicPr>
        <p:blipFill>
          <a:blip r:embed="rId11"/>
          <a:stretch/>
        </p:blipFill>
        <p:spPr>
          <a:xfrm>
            <a:off x="541440" y="5126040"/>
            <a:ext cx="39495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3" descr="C:\Users\Annagylyjova\Desktop\logo.png"/>
          <p:cNvPicPr/>
          <p:nvPr/>
        </p:nvPicPr>
        <p:blipFill>
          <a:blip r:embed="rId1"/>
          <a:stretch/>
        </p:blipFill>
        <p:spPr>
          <a:xfrm>
            <a:off x="623880" y="49212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646" name="TextBox 2"/>
          <p:cNvSpPr/>
          <p:nvPr/>
        </p:nvSpPr>
        <p:spPr>
          <a:xfrm>
            <a:off x="480960" y="391644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Земјите членк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Ќе ја усвојат новата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UNCCD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Стратегиј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2018 -2030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ретставување на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на сегментот на високо ниво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Ќе се претстават резултатите и поделат искуствата за поставувањето на волонтерските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цел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49" name="Picture 9" descr=""/>
          <p:cNvPicPr/>
          <p:nvPr/>
        </p:nvPicPr>
        <p:blipFill>
          <a:blip r:embed="rId2"/>
          <a:stretch/>
        </p:blipFill>
        <p:spPr>
          <a:xfrm>
            <a:off x="5132520" y="741240"/>
            <a:ext cx="3189240" cy="1878120"/>
          </a:xfrm>
          <a:prstGeom prst="rect">
            <a:avLst/>
          </a:prstGeom>
          <a:ln w="0">
            <a:noFill/>
          </a:ln>
        </p:spPr>
      </p:pic>
      <p:sp>
        <p:nvSpPr>
          <p:cNvPr id="650" name="TextBox 5"/>
          <p:cNvSpPr/>
          <p:nvPr/>
        </p:nvSpPr>
        <p:spPr>
          <a:xfrm>
            <a:off x="4643280" y="271620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OP13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Ордос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,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Монголија,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Кин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4-15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Септемвр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51" name="Picture 3" descr="C:\Users\ANNAGY~1\AppData\Local\Temp\notesE038F8\logo_linear_colour options-08.png"/>
          <p:cNvPicPr/>
          <p:nvPr/>
        </p:nvPicPr>
        <p:blipFill>
          <a:blip r:embed="rId3"/>
          <a:stretch/>
        </p:blipFill>
        <p:spPr>
          <a:xfrm>
            <a:off x="6804000" y="-30240"/>
            <a:ext cx="2340000" cy="808200"/>
          </a:xfrm>
          <a:prstGeom prst="rect">
            <a:avLst/>
          </a:prstGeom>
          <a:ln w="0">
            <a:noFill/>
          </a:ln>
        </p:spPr>
      </p:pic>
      <p:sp>
        <p:nvSpPr>
          <p:cNvPr id="652" name="Right Arrow 1"/>
          <p:cNvSpPr/>
          <p:nvPr/>
        </p:nvSpPr>
        <p:spPr>
          <a:xfrm>
            <a:off x="3419640" y="1681200"/>
            <a:ext cx="1223640" cy="5954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0" y="0"/>
            <a:ext cx="4495680" cy="6858000"/>
          </a:xfrm>
          <a:prstGeom prst="rect">
            <a:avLst/>
          </a:prstGeom>
          <a:solidFill>
            <a:srgbClr val="008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563868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250920" y="26812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3600" spc="-1" strike="noStrike">
                <a:solidFill>
                  <a:srgbClr val="ffffff"/>
                </a:solidFill>
                <a:latin typeface="Franklin Gothic Demi"/>
              </a:rPr>
              <a:t>ВИ БЛАГОДАРАМ</a:t>
            </a: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56" name="Picture 16" descr="C:\Documents and Settings\voigt\Desktop\UNCCD Logo UN Logo_white rgb.png"/>
          <p:cNvPicPr/>
          <p:nvPr/>
        </p:nvPicPr>
        <p:blipFill>
          <a:blip r:embed="rId1"/>
          <a:stretch/>
        </p:blipFill>
        <p:spPr>
          <a:xfrm>
            <a:off x="7543800" y="304920"/>
            <a:ext cx="1262160" cy="558720"/>
          </a:xfrm>
          <a:prstGeom prst="rect">
            <a:avLst/>
          </a:prstGeom>
          <a:ln w="0">
            <a:noFill/>
          </a:ln>
        </p:spPr>
      </p:pic>
      <p:sp>
        <p:nvSpPr>
          <p:cNvPr id="657" name="TextBox 2"/>
          <p:cNvSpPr/>
          <p:nvPr/>
        </p:nvSpPr>
        <p:spPr>
          <a:xfrm>
            <a:off x="4643280" y="5877000"/>
            <a:ext cx="41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WWW.UNCCD.INT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58" name="Picture 3" descr="C:\Users\ANNAGY~1\AppData\Local\Temp\notesE038F8\logo_linear_colour options-08.png"/>
          <p:cNvPicPr/>
          <p:nvPr/>
        </p:nvPicPr>
        <p:blipFill>
          <a:blip r:embed="rId2"/>
          <a:stretch/>
        </p:blipFill>
        <p:spPr>
          <a:xfrm>
            <a:off x="6797520" y="0"/>
            <a:ext cx="23400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7" name="AutoShape 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88" name="Picture 7" descr=""/>
          <p:cNvPicPr/>
          <p:nvPr/>
        </p:nvPicPr>
        <p:blipFill>
          <a:blip r:embed="rId1"/>
          <a:stretch/>
        </p:blipFill>
        <p:spPr>
          <a:xfrm>
            <a:off x="1547640" y="274680"/>
            <a:ext cx="6359760" cy="42433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Life on land"/>
          <p:cNvPicPr/>
          <p:nvPr/>
        </p:nvPicPr>
        <p:blipFill>
          <a:blip r:embed="rId2"/>
          <a:stretch/>
        </p:blipFill>
        <p:spPr>
          <a:xfrm>
            <a:off x="343080" y="496404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C:\Users\ANNAGY~1\AppData\Local\Temp\notesE038F8\logo_linear_colour options-08.png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08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"/>
          <p:cNvPicPr/>
          <p:nvPr/>
        </p:nvPicPr>
        <p:blipFill>
          <a:blip r:embed="rId4"/>
          <a:stretch/>
        </p:blipFill>
        <p:spPr>
          <a:xfrm>
            <a:off x="1979640" y="4869000"/>
            <a:ext cx="57751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8920" y="216000"/>
            <a:ext cx="66963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c00000"/>
                </a:solidFill>
                <a:latin typeface="Futura LT Book"/>
              </a:rPr>
              <a:t>Повеќекратни придобивки од </a:t>
            </a:r>
            <a:r>
              <a:rPr b="0" lang="en-US" sz="3200" spc="-1" strike="noStrike">
                <a:solidFill>
                  <a:srgbClr val="c00000"/>
                </a:solidFill>
                <a:latin typeface="Futura LT Book"/>
              </a:rPr>
              <a:t>L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50560" y="4149720"/>
            <a:ext cx="8569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Користење на земјиштето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– 25% </a:t>
            </a: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глобалните емисии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(IP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FOLU(</a:t>
            </a:r>
            <a:r>
              <a:rPr b="0" lang="mk-MK" sz="2000" spc="-1" strike="noStrike">
                <a:solidFill>
                  <a:srgbClr val="000000"/>
                </a:solidFill>
                <a:latin typeface="Franklin Gothic Medium"/>
              </a:rPr>
              <a:t>зем. шум и др.)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–</a:t>
            </a: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10.6GtCO2e/year by 20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Јаз (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Gap</a:t>
            </a: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-18GtCO2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Митигацискиот потенцијал на земјиштето не е искористен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1" descr=""/>
          <p:cNvPicPr/>
          <p:nvPr/>
        </p:nvPicPr>
        <p:blipFill>
          <a:blip r:embed="rId1"/>
          <a:stretch/>
        </p:blipFill>
        <p:spPr>
          <a:xfrm>
            <a:off x="2124000" y="808200"/>
            <a:ext cx="4479840" cy="3168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C:\Users\ANNAGY~1\AppData\Local\Temp\notesE038F8\logo_linear_colour options-08.png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808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6"/>
          <p:cNvSpPr/>
          <p:nvPr/>
        </p:nvSpPr>
        <p:spPr>
          <a:xfrm>
            <a:off x="563868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97" name="Picture 30" descr="C:\Documents and Settings\voigt\Desktop\UNCCD Logo UN Logo_white rgb.png"/>
          <p:cNvPicPr/>
          <p:nvPr/>
        </p:nvPicPr>
        <p:blipFill>
          <a:blip r:embed="rId1"/>
          <a:stretch/>
        </p:blipFill>
        <p:spPr>
          <a:xfrm>
            <a:off x="7543800" y="304920"/>
            <a:ext cx="1262160" cy="5587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2"/>
          <p:cNvSpPr/>
          <p:nvPr/>
        </p:nvSpPr>
        <p:spPr>
          <a:xfrm>
            <a:off x="30240" y="30492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800" spc="-1" strike="noStrike">
                <a:solidFill>
                  <a:srgbClr val="006600"/>
                </a:solidFill>
                <a:latin typeface="Franklin Gothic Demi"/>
              </a:rPr>
              <a:t>Главни одлуки кои повикуваат на </a:t>
            </a:r>
            <a:r>
              <a:rPr b="1" lang="en-US" sz="2800" spc="-1" strike="noStrike">
                <a:solidFill>
                  <a:srgbClr val="006600"/>
                </a:solidFill>
                <a:latin typeface="Franklin Gothic Demi"/>
              </a:rPr>
              <a:t>LD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9" name="Rectangle 1"/>
          <p:cNvSpPr/>
          <p:nvPr/>
        </p:nvSpPr>
        <p:spPr>
          <a:xfrm>
            <a:off x="2173320" y="1197000"/>
            <a:ext cx="693108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Medium"/>
              </a:rPr>
              <a:t>UNCCD COP 12 (O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ктомври</a:t>
            </a:r>
            <a:r>
              <a:rPr b="0" lang="de-DE" sz="2400" spc="-1" strike="noStrike">
                <a:solidFill>
                  <a:srgbClr val="000000"/>
                </a:solidFill>
                <a:latin typeface="Franklin Gothic Medium"/>
              </a:rPr>
              <a:t> 2015)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Беа поканите земјите членки на Конвенцијат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да </a:t>
            </a:r>
            <a:r>
              <a:rPr b="0" lang="mk-MK" sz="2400" spc="-1" strike="noStrike">
                <a:solidFill>
                  <a:srgbClr val="ff0000"/>
                </a:solidFill>
                <a:latin typeface="Franklin Gothic Medium"/>
              </a:rPr>
              <a:t>формулираат волонтерски цели за постигнување</a:t>
            </a:r>
            <a:r>
              <a:rPr b="0" lang="en-US" sz="2400" spc="-1" strike="noStrike">
                <a:solidFill>
                  <a:srgbClr val="ff0000"/>
                </a:solidFill>
                <a:latin typeface="Franklin Gothic Medium"/>
              </a:rPr>
              <a:t> 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во согласност со нивните специфични национални околности и развојни приоритет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Helvetica Neue"/>
              </a:rPr>
              <a:t>Беше побарано од телата на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UNCCD </a:t>
            </a:r>
            <a:r>
              <a:rPr b="0" lang="mk-MK" sz="2400" spc="-1" strike="noStrike">
                <a:solidFill>
                  <a:srgbClr val="000000"/>
                </a:solidFill>
                <a:latin typeface="Helvetica Neue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15000"/>
              </a:lnSpc>
              <a:buClr>
                <a:srgbClr val="3333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обезбедат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 </a:t>
            </a:r>
            <a:r>
              <a:rPr b="0" lang="mk-MK" sz="2400" spc="-1" strike="noStrike">
                <a:solidFill>
                  <a:srgbClr val="ff0000"/>
                </a:solidFill>
                <a:latin typeface="Franklin Gothic Medium"/>
                <a:ea typeface="MS PGothic"/>
              </a:rPr>
              <a:t>насоки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за формулирање на национални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цел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15000"/>
              </a:lnSpc>
              <a:buClr>
                <a:srgbClr val="3333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Во соработка со други агенции да обезбедат </a:t>
            </a:r>
            <a:r>
              <a:rPr b="0" lang="mk-MK" sz="2400" spc="-1" strike="noStrike">
                <a:solidFill>
                  <a:srgbClr val="ff0000"/>
                </a:solidFill>
                <a:latin typeface="Franklin Gothic Medium"/>
                <a:ea typeface="MS PGothic"/>
              </a:rPr>
              <a:t>научна и техничка поддршка</a:t>
            </a:r>
            <a:r>
              <a:rPr b="0" lang="en-US" sz="2400" spc="-1" strike="noStrike">
                <a:solidFill>
                  <a:srgbClr val="ff0000"/>
                </a:solidFill>
                <a:latin typeface="Franklin Gothic Medium"/>
                <a:ea typeface="MS PGothic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земјите за имплементирање н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 LDN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00" name="Picture 13" descr="C:\Users\Annagylyjova\Desktop\logo.png"/>
          <p:cNvPicPr/>
          <p:nvPr/>
        </p:nvPicPr>
        <p:blipFill>
          <a:blip r:embed="rId2"/>
          <a:stretch/>
        </p:blipFill>
        <p:spPr>
          <a:xfrm>
            <a:off x="228600" y="1413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Users\ANNAGY~1\AppData\Local\Temp\notesE038F8\logo_linear_colour options-08.png"/>
          <p:cNvPicPr/>
          <p:nvPr/>
        </p:nvPicPr>
        <p:blipFill>
          <a:blip r:embed="rId3"/>
          <a:stretch/>
        </p:blipFill>
        <p:spPr>
          <a:xfrm>
            <a:off x="6804000" y="54000"/>
            <a:ext cx="234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Box 1"/>
          <p:cNvSpPr/>
          <p:nvPr/>
        </p:nvSpPr>
        <p:spPr>
          <a:xfrm>
            <a:off x="324000" y="333360"/>
            <a:ext cx="8424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4" name="TextBox 2"/>
          <p:cNvSpPr/>
          <p:nvPr/>
        </p:nvSpPr>
        <p:spPr>
          <a:xfrm>
            <a:off x="32400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Franklin Gothic Medium"/>
              </a:rPr>
              <a:t>LDN </a:t>
            </a:r>
            <a:r>
              <a:rPr b="0" lang="mk-MK" sz="3200" spc="-1" strike="noStrike">
                <a:solidFill>
                  <a:srgbClr val="3366cc"/>
                </a:solidFill>
                <a:latin typeface="Franklin Gothic Medium"/>
              </a:rPr>
              <a:t>Пилот проект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5" name="TextBox 3"/>
          <p:cNvSpPr/>
          <p:nvPr/>
        </p:nvSpPr>
        <p:spPr>
          <a:xfrm>
            <a:off x="179280" y="981000"/>
            <a:ext cx="907272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тестиран во 14 земј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UNCCD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рогрес индикатори и предложен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3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индикатори за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DN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глобални податоци и поставување н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основа з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baseline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идентификување на целите за постигнување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LDN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оврзување со Националниот план за борба против опустинување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6" name="TextBox 5"/>
          <p:cNvSpPr/>
          <p:nvPr/>
        </p:nvSpPr>
        <p:spPr>
          <a:xfrm>
            <a:off x="324000" y="3429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РЕЗУЛТАТ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одобрено е обезбедувањето на глобални податоци за земјите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Често земјите располагаат со подобри податоц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отреба од посебни национални индикатор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целите беа поставен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7" name="TextBox 6"/>
          <p:cNvSpPr/>
          <p:nvPr/>
        </p:nvSpPr>
        <p:spPr>
          <a:xfrm>
            <a:off x="539640" y="558972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Извештаите од земјите се достапни на: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http://www.unccd.int/en/programmes/RioConventions/RioPlus20/Pages/LDN-Project-Country-Reports.aspx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08" name="Picture 8" descr=""/>
          <p:cNvPicPr/>
          <p:nvPr/>
        </p:nvPicPr>
        <p:blipFill>
          <a:blip r:embed="rId2"/>
          <a:stretch/>
        </p:blipFill>
        <p:spPr>
          <a:xfrm>
            <a:off x="6802560" y="0"/>
            <a:ext cx="23414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008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563868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181080" y="1484280"/>
            <a:ext cx="412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Demi"/>
              </a:rPr>
              <a:t>LDN </a:t>
            </a:r>
            <a:r>
              <a:rPr b="0" lang="mk-MK" sz="3200" spc="-1" strike="noStrike">
                <a:solidFill>
                  <a:srgbClr val="ffffff"/>
                </a:solidFill>
                <a:latin typeface="Franklin Gothic Demi"/>
              </a:rPr>
              <a:t>Концептуална рамк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12" name="Picture 11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794400" cy="52675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20"/>
          <p:cNvSpPr/>
          <p:nvPr/>
        </p:nvSpPr>
        <p:spPr>
          <a:xfrm>
            <a:off x="31680" y="2763720"/>
            <a:ext cx="4694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Неутралност</a:t>
            </a: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 =“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нема нето загуби“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Се бара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: 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баланс помеѓу загубите и 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придобивките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Во однос на деградацијата на земјиштето</a:t>
            </a: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Противтежа на тековната деградација на земјиштето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загубите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Со реставрација на деградирано земјиште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 (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придобивки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217440" y="154080"/>
            <a:ext cx="4091040" cy="1330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C:\Users\ANNAGY~1\AppData\Local\Temp\notesE038F8\logo_linear_colour options-08.png"/>
          <p:cNvPicPr/>
          <p:nvPr/>
        </p:nvPicPr>
        <p:blipFill>
          <a:blip r:embed="rId3"/>
          <a:stretch/>
        </p:blipFill>
        <p:spPr>
          <a:xfrm>
            <a:off x="6797520" y="0"/>
            <a:ext cx="23400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17360" y="249120"/>
            <a:ext cx="1398600" cy="493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"/>
          <p:cNvPicPr/>
          <p:nvPr/>
        </p:nvPicPr>
        <p:blipFill>
          <a:blip r:embed="rId2"/>
          <a:stretch/>
        </p:blipFill>
        <p:spPr>
          <a:xfrm>
            <a:off x="7307280" y="254160"/>
            <a:ext cx="1297080" cy="4888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Açıklama: CEM Logo İng"/>
          <p:cNvPicPr/>
          <p:nvPr/>
        </p:nvPicPr>
        <p:blipFill>
          <a:blip r:embed="rId3"/>
          <a:stretch/>
        </p:blipFill>
        <p:spPr>
          <a:xfrm>
            <a:off x="6629400" y="6002280"/>
            <a:ext cx="942840" cy="627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"/>
          <p:cNvPicPr/>
          <p:nvPr/>
        </p:nvPicPr>
        <p:blipFill>
          <a:blip r:embed="rId4"/>
          <a:stretch/>
        </p:blipFill>
        <p:spPr>
          <a:xfrm>
            <a:off x="4800600" y="5945040"/>
            <a:ext cx="660240" cy="822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"/>
          <p:cNvPicPr/>
          <p:nvPr/>
        </p:nvPicPr>
        <p:blipFill>
          <a:blip r:embed="rId5"/>
          <a:stretch/>
        </p:blipFill>
        <p:spPr>
          <a:xfrm>
            <a:off x="5486400" y="6027840"/>
            <a:ext cx="1143000" cy="7477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4" descr=""/>
          <p:cNvPicPr/>
          <p:nvPr/>
        </p:nvPicPr>
        <p:blipFill>
          <a:blip r:embed="rId6"/>
          <a:stretch/>
        </p:blipFill>
        <p:spPr>
          <a:xfrm>
            <a:off x="663480" y="5934240"/>
            <a:ext cx="746280" cy="7142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5" descr="https://www.thegef.org/gef/sites/thegef.org/files/Images/25ylogoshort-01.png"/>
          <p:cNvPicPr/>
          <p:nvPr/>
        </p:nvPicPr>
        <p:blipFill>
          <a:blip r:embed="rId7"/>
          <a:stretch/>
        </p:blipFill>
        <p:spPr>
          <a:xfrm>
            <a:off x="1488960" y="6021360"/>
            <a:ext cx="1067040" cy="666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UNEP Logo"/>
          <p:cNvPicPr/>
          <p:nvPr/>
        </p:nvPicPr>
        <p:blipFill>
          <a:blip r:embed="rId8"/>
          <a:stretch/>
        </p:blipFill>
        <p:spPr>
          <a:xfrm>
            <a:off x="2720880" y="6027840"/>
            <a:ext cx="479520" cy="5252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0" descr=""/>
          <p:cNvPicPr/>
          <p:nvPr/>
        </p:nvPicPr>
        <p:blipFill>
          <a:blip r:embed="rId9"/>
          <a:stretch/>
        </p:blipFill>
        <p:spPr>
          <a:xfrm>
            <a:off x="4038480" y="6027840"/>
            <a:ext cx="608040" cy="6015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2" descr=""/>
          <p:cNvPicPr/>
          <p:nvPr/>
        </p:nvPicPr>
        <p:blipFill>
          <a:blip r:embed="rId10"/>
          <a:stretch/>
        </p:blipFill>
        <p:spPr>
          <a:xfrm>
            <a:off x="3352680" y="5943600"/>
            <a:ext cx="533520" cy="830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3" descr="C:\Users\User\AppData\Local\Temp\Rar$DIa0.165\ANKARA GIRISIM1 ing.jpg"/>
          <p:cNvPicPr/>
          <p:nvPr/>
        </p:nvPicPr>
        <p:blipFill>
          <a:blip r:embed="rId11"/>
          <a:stretch/>
        </p:blipFill>
        <p:spPr>
          <a:xfrm>
            <a:off x="7724880" y="6000840"/>
            <a:ext cx="657000" cy="55224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"/>
          <p:cNvSpPr/>
          <p:nvPr/>
        </p:nvSpPr>
        <p:spPr>
          <a:xfrm>
            <a:off x="1069920" y="498600"/>
            <a:ext cx="691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800" spc="-1" strike="noStrike">
                <a:solidFill>
                  <a:srgbClr val="254061"/>
                </a:solidFill>
                <a:latin typeface="Calibri"/>
              </a:rPr>
              <a:t>НЕУТРАЛНОСТ НА ДЕГРАДАЦИЈАТА НА ЗЕМЈИШТЕТО – ПРОГРАМА ЗА ПОСТАВУВАЊЕ НА ЦЕЛИТЕ</a:t>
            </a:r>
            <a:r>
              <a:rPr b="1" lang="en-US" sz="2800" spc="-1" strike="noStrike">
                <a:solidFill>
                  <a:srgbClr val="254061"/>
                </a:solidFill>
                <a:latin typeface="Calibri"/>
              </a:rPr>
              <a:t> (LDN-TSP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28" name="Picture 13" descr=""/>
          <p:cNvPicPr/>
          <p:nvPr/>
        </p:nvPicPr>
        <p:blipFill>
          <a:blip r:embed="rId12"/>
          <a:stretch/>
        </p:blipFill>
        <p:spPr>
          <a:xfrm>
            <a:off x="1482840" y="1914480"/>
            <a:ext cx="6091200" cy="2592360"/>
          </a:xfrm>
          <a:prstGeom prst="rect">
            <a:avLst/>
          </a:prstGeom>
          <a:ln w="0">
            <a:noFill/>
          </a:ln>
        </p:spPr>
      </p:pic>
      <p:sp>
        <p:nvSpPr>
          <p:cNvPr id="629" name="TextBox 1"/>
          <p:cNvSpPr/>
          <p:nvPr/>
        </p:nvSpPr>
        <p:spPr>
          <a:xfrm>
            <a:off x="479520" y="450864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Администрирана од Глобалниот Механизам на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UNCCD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100+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земј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Поддршка на процесот управуван од земјите учесничк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4149360"/>
            <a:ext cx="74152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mk-MK" sz="1800" spc="-1" strike="noStrike">
                <a:solidFill>
                  <a:srgbClr val="254061"/>
                </a:solidFill>
                <a:latin typeface="Calibri"/>
              </a:rPr>
              <a:t>Регионална подготвителна работилница во Батуми</a:t>
            </a: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, </a:t>
            </a:r>
            <a:r>
              <a:rPr b="1" lang="mk-MK" sz="1800" spc="-1" strike="noStrike">
                <a:solidFill>
                  <a:srgbClr val="254061"/>
                </a:solidFill>
                <a:latin typeface="Calibri"/>
              </a:rPr>
              <a:t>Грузија</a:t>
            </a:r>
            <a:br>
              <a:rPr sz="1800"/>
            </a:b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 9-10 J</a:t>
            </a:r>
            <a:r>
              <a:rPr b="1" lang="mk-MK" sz="1800" spc="-1" strike="noStrike">
                <a:solidFill>
                  <a:srgbClr val="254061"/>
                </a:solidFill>
                <a:latin typeface="Calibri"/>
              </a:rPr>
              <a:t>уни</a:t>
            </a: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 201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5472000" cy="36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2" name=""/>
          <p:cNvGraphicFramePr/>
          <p:nvPr/>
        </p:nvGraphicFramePr>
        <p:xfrm>
          <a:off x="900000" y="4724280"/>
          <a:ext cx="7417080" cy="174780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  <a:gridCol w="185436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ербејџ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на Г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рме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сна и Херцего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дав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ах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ру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едо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рги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б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бекиста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324000" y="836640"/>
          <a:ext cx="8569080" cy="4992840"/>
        </p:xfrm>
        <a:graphic>
          <a:graphicData uri="http://schemas.openxmlformats.org/drawingml/2006/table">
            <a:tbl>
              <a:tblPr/>
              <a:tblGrid>
                <a:gridCol w="2334960"/>
                <a:gridCol w="6234120"/>
              </a:tblGrid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емвр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на за вклучување во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N-TSP </a:t>
                      </a: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ратена до Министерствата одговорни з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C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J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дење на капацитет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а одржани четири регионални подготвителни работилниц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02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ј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ус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емв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ности за поддршка н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ни работни груп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5.3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 приоретизира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GCF,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ни иницијативи, формиран посебе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N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емв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збедување на </a:t>
                      </a: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бални податоци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јишна покривка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C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ктивност на земјиште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ски јаглерод во почва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екоја земј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пирани с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N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та и трендови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ување на мерливи и временски ограничен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ни волонтерск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DN </a:t>
                      </a: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ентификување на посебни мерки за постигнување на ов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птемв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ирање н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D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пирани се можностите за трансформациски проекти за секоја земја, други изво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птемв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 13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јит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и претставуваат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DN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те и соодветните ме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4" name="Group 5"/>
          <p:cNvGrpSpPr/>
          <p:nvPr/>
        </p:nvGrpSpPr>
        <p:grpSpPr>
          <a:xfrm>
            <a:off x="689040" y="5783400"/>
            <a:ext cx="7686720" cy="831600"/>
            <a:chOff x="689040" y="5783400"/>
            <a:chExt cx="7686720" cy="831600"/>
          </a:xfrm>
        </p:grpSpPr>
        <p:pic>
          <p:nvPicPr>
            <p:cNvPr id="635" name="Picture 6" descr="Açıklama: CEM Logo İng"/>
            <p:cNvPicPr/>
            <p:nvPr/>
          </p:nvPicPr>
          <p:blipFill>
            <a:blip r:embed="rId1"/>
            <a:stretch/>
          </p:blipFill>
          <p:spPr>
            <a:xfrm>
              <a:off x="6623640" y="5842080"/>
              <a:ext cx="94320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7" descr=""/>
            <p:cNvPicPr/>
            <p:nvPr/>
          </p:nvPicPr>
          <p:blipFill>
            <a:blip r:embed="rId2"/>
            <a:stretch/>
          </p:blipFill>
          <p:spPr>
            <a:xfrm>
              <a:off x="4794840" y="5784480"/>
              <a:ext cx="659520" cy="82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8" descr=""/>
            <p:cNvPicPr/>
            <p:nvPr/>
          </p:nvPicPr>
          <p:blipFill>
            <a:blip r:embed="rId3"/>
            <a:stretch/>
          </p:blipFill>
          <p:spPr>
            <a:xfrm>
              <a:off x="5480640" y="5868000"/>
              <a:ext cx="114264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9" descr=""/>
            <p:cNvPicPr/>
            <p:nvPr/>
          </p:nvPicPr>
          <p:blipFill>
            <a:blip r:embed="rId4"/>
            <a:stretch/>
          </p:blipFill>
          <p:spPr>
            <a:xfrm>
              <a:off x="689040" y="5820480"/>
              <a:ext cx="74520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0" descr="https://www.thegef.org/gef/sites/thegef.org/files/Images/25ylogoshort-01.png"/>
            <p:cNvPicPr/>
            <p:nvPr/>
          </p:nvPicPr>
          <p:blipFill>
            <a:blip r:embed="rId5"/>
            <a:stretch/>
          </p:blipFill>
          <p:spPr>
            <a:xfrm>
              <a:off x="1483920" y="5861880"/>
              <a:ext cx="106668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11" descr="UNEP Logo"/>
            <p:cNvPicPr/>
            <p:nvPr/>
          </p:nvPicPr>
          <p:blipFill>
            <a:blip r:embed="rId6"/>
            <a:stretch/>
          </p:blipFill>
          <p:spPr>
            <a:xfrm>
              <a:off x="2714760" y="5868000"/>
              <a:ext cx="4798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2" descr=""/>
            <p:cNvPicPr/>
            <p:nvPr/>
          </p:nvPicPr>
          <p:blipFill>
            <a:blip r:embed="rId7"/>
            <a:stretch/>
          </p:blipFill>
          <p:spPr>
            <a:xfrm>
              <a:off x="4033080" y="5868000"/>
              <a:ext cx="60804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13" descr=""/>
            <p:cNvPicPr/>
            <p:nvPr/>
          </p:nvPicPr>
          <p:blipFill>
            <a:blip r:embed="rId8"/>
            <a:stretch/>
          </p:blipFill>
          <p:spPr>
            <a:xfrm>
              <a:off x="3347280" y="5783400"/>
              <a:ext cx="533160" cy="8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14" descr="C:\Users\User\AppData\Local\Temp\Rar$DIa0.165\ANKARA GIRISIM1 ing.jpg"/>
            <p:cNvPicPr/>
            <p:nvPr/>
          </p:nvPicPr>
          <p:blipFill>
            <a:blip r:embed="rId9"/>
            <a:stretch/>
          </p:blipFill>
          <p:spPr>
            <a:xfrm>
              <a:off x="7718760" y="5840640"/>
              <a:ext cx="657000" cy="55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" name="TextBox 1"/>
          <p:cNvSpPr/>
          <p:nvPr/>
        </p:nvSpPr>
        <p:spPr>
          <a:xfrm>
            <a:off x="108000" y="0"/>
            <a:ext cx="53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LDN Target Setting  Program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6:23:12Z</dcterms:created>
  <dc:creator>voigt</dc:creator>
  <dc:description/>
  <dc:language>en-US</dc:language>
  <cp:lastModifiedBy>Vesna Indova</cp:lastModifiedBy>
  <cp:lastPrinted>2017-02-27T14:43:46Z</cp:lastPrinted>
  <dcterms:modified xsi:type="dcterms:W3CDTF">2017-02-27T15:38:35Z</dcterms:modified>
  <cp:revision>294</cp:revision>
  <dc:subject/>
  <dc:title>PowerPoint Presentation</dc:title>
</cp:coreProperties>
</file>